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9F7-5577-4CFE-9D27-3477E779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2AD-ABEC-483E-8584-6867FB2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3B2-7437-4304-A7AC-CA1D07B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E1D-3CC1-425A-B2BA-797201EA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759F-A5F5-429A-86DF-6BA3C31D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594F-39DB-4336-81A4-3699944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D81C-C4EC-4A49-8659-BF24C5B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6A5-D877-4039-9F9E-8B1F177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4D55-B0B0-4A03-8AA0-AED0F57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5DC-ABE3-4D99-9BE3-E2738456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A14-4573-4717-BCAB-E386A18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A32-2FF6-4BF3-AB43-3FB791D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FD2-7B4F-428C-8AB9-725724D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9507-DB5B-4001-A0B5-84D3FD2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434-D02D-46C0-B2F0-76251BE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47C-FF9E-4CEC-B377-482AB7AE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7E3-E733-4DCB-8B83-1583F9D7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517-BA05-4479-8F07-9F58D75B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0EB-A13F-4DCD-A460-8D676E5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4D5-CC61-4D38-AF92-2F039D4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008-E088-4097-915D-7B73855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07B-F875-4D54-BA3A-08E31BD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B01-741C-4530-843E-492F2BE7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890-3EB2-4FC8-9C54-EA05F85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9668-587D-4D12-99F6-2D9315EFB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CDD-4BBA-4EDC-9F0A-6D770B9F5E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4 из 14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87280" y="836640"/>
            <a:ext cx="720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5" descr="AG00315_"/>
          <p:cNvPicPr/>
          <p:nvPr/>
        </p:nvPicPr>
        <p:blipFill>
          <a:blip r:embed="rId1"/>
          <a:stretch/>
        </p:blipFill>
        <p:spPr>
          <a:xfrm>
            <a:off x="3348000" y="4941720"/>
            <a:ext cx="1655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Картинка 70 из 120956"/>
          <p:cNvPicPr/>
          <p:nvPr/>
        </p:nvPicPr>
        <p:blipFill>
          <a:blip r:embed="rId1"/>
          <a:stretch/>
        </p:blipFill>
        <p:spPr>
          <a:xfrm>
            <a:off x="324000" y="3571920"/>
            <a:ext cx="3960720" cy="2976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12"/>
          <p:cNvSpPr/>
          <p:nvPr/>
        </p:nvSpPr>
        <p:spPr>
          <a:xfrm>
            <a:off x="5223960" y="260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са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Картинка 10 из 136000"/>
          <p:cNvPicPr/>
          <p:nvPr/>
        </p:nvPicPr>
        <p:blipFill>
          <a:blip r:embed="rId2"/>
          <a:stretch/>
        </p:blipFill>
        <p:spPr>
          <a:xfrm>
            <a:off x="4643280" y="836640"/>
            <a:ext cx="4248360" cy="27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16" descr="Картинка 19 из 136000"/>
          <p:cNvPicPr/>
          <p:nvPr/>
        </p:nvPicPr>
        <p:blipFill>
          <a:blip r:embed="rId3"/>
          <a:stretch/>
        </p:blipFill>
        <p:spPr>
          <a:xfrm>
            <a:off x="179280" y="260280"/>
            <a:ext cx="4105440" cy="3079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8" descr="Картинка 11 из 136000"/>
          <p:cNvPicPr/>
          <p:nvPr/>
        </p:nvPicPr>
        <p:blipFill>
          <a:blip r:embed="rId4"/>
          <a:stretch/>
        </p:blipFill>
        <p:spPr>
          <a:xfrm>
            <a:off x="4788000" y="3860640"/>
            <a:ext cx="3792600" cy="28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 rot="21049800">
            <a:off x="899640" y="1341360"/>
            <a:ext cx="763272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0" descr="Картинка 177 из 136000"/>
          <p:cNvPicPr/>
          <p:nvPr/>
        </p:nvPicPr>
        <p:blipFill>
          <a:blip r:embed="rId1"/>
          <a:stretch/>
        </p:blipFill>
        <p:spPr>
          <a:xfrm>
            <a:off x="395280" y="216000"/>
            <a:ext cx="2763720" cy="207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5280" y="1446840"/>
            <a:ext cx="849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Что такое природное сообщ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Какие организмы составляют природное сообщество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ак связаны между собой организмы в природном сообществе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оль сообщ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кологические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Картинка 211 из 136000"/>
          <p:cNvPicPr/>
          <p:nvPr/>
        </p:nvPicPr>
        <p:blipFill>
          <a:blip r:embed="rId1"/>
          <a:stretch/>
        </p:blipFill>
        <p:spPr>
          <a:xfrm>
            <a:off x="324000" y="189000"/>
            <a:ext cx="2016000" cy="158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68360" y="404640"/>
            <a:ext cx="8351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СООБ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bd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Объединение людей, народов, государств, имеющих общие интересы, цели. Международное. Мировое (страны всего ми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bd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Группа растительных или животных организмов, живущих вмес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908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71640" y="836640"/>
            <a:ext cx="36734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Л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63840" y="2205000"/>
            <a:ext cx="597024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РОДНОЕ СО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08480" y="3860640"/>
            <a:ext cx="2146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179400" y="3860640"/>
            <a:ext cx="2344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340000" y="5084640"/>
            <a:ext cx="158256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729320" y="5084640"/>
            <a:ext cx="220464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БАКТЕ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1331640" y="2852640"/>
            <a:ext cx="208764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5724360" y="2852640"/>
            <a:ext cx="19432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2987280" y="2852640"/>
            <a:ext cx="934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4788000" y="2852640"/>
            <a:ext cx="1150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ds03.infourok.ru/uploads/ex/029a/000050b9-50c128c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826920" y="2274840"/>
            <a:ext cx="77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ть стр.164-165, отвечать на вопросы стр. 16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готовить сообщение (по выбор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секомые просят защи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тения просят о пом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тицы,  прилетай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Картинка 177 из 24837"/>
          <p:cNvPicPr/>
          <p:nvPr/>
        </p:nvPicPr>
        <p:blipFill>
          <a:blip r:embed="rId1"/>
          <a:stretch/>
        </p:blipFill>
        <p:spPr>
          <a:xfrm>
            <a:off x="3995640" y="4365720"/>
            <a:ext cx="2486160" cy="2035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332280"/>
            <a:ext cx="885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ите родную природ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ёра, леса и пол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дь это же наша с тоб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веки родна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ней мы с тобою родили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вём мы с тобою на 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будем же, люди, все вмес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 к ней относиться добрей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Картинка 39 из 24835"/>
          <p:cNvPicPr/>
          <p:nvPr/>
        </p:nvPicPr>
        <p:blipFill>
          <a:blip r:embed="rId2"/>
          <a:stretch/>
        </p:blipFill>
        <p:spPr>
          <a:xfrm>
            <a:off x="179280" y="4292640"/>
            <a:ext cx="241164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артинка 75 из 24837"/>
          <p:cNvPicPr/>
          <p:nvPr/>
        </p:nvPicPr>
        <p:blipFill>
          <a:blip r:embed="rId3"/>
          <a:stretch/>
        </p:blipFill>
        <p:spPr>
          <a:xfrm>
            <a:off x="2411280" y="4797360"/>
            <a:ext cx="173376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артинка 153 из 24837"/>
          <p:cNvPicPr/>
          <p:nvPr/>
        </p:nvPicPr>
        <p:blipFill>
          <a:blip r:embed="rId4"/>
          <a:stretch/>
        </p:blipFill>
        <p:spPr>
          <a:xfrm>
            <a:off x="179280" y="333360"/>
            <a:ext cx="1974960" cy="34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Картинка 329 из 24836"/>
          <p:cNvPicPr/>
          <p:nvPr/>
        </p:nvPicPr>
        <p:blipFill>
          <a:blip r:embed="rId5"/>
          <a:stretch/>
        </p:blipFill>
        <p:spPr>
          <a:xfrm>
            <a:off x="6372360" y="4797360"/>
            <a:ext cx="223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0:37:58Z</dcterms:created>
  <dc:creator>мама</dc:creator>
  <dc:description/>
  <dc:language>en-US</dc:language>
  <cp:lastModifiedBy>Учитель</cp:lastModifiedBy>
  <dcterms:modified xsi:type="dcterms:W3CDTF">2023-11-06T14:56:35Z</dcterms:modified>
  <cp:revision>16</cp:revision>
  <dc:subject/>
  <dc:title>Слайд 1</dc:title>
</cp:coreProperties>
</file>